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6692-D3F5-4169-87BA-63EB39C087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1B7B-9384-4387-A1FD-8D115EE68D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F77-B124-4843-B47A-D2AF2344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4C1-28EF-4C21-89BC-C551D6FF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DA6-7FCA-44E9-ABCB-AFD75EEC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D8A-7ABB-4FF4-B211-D70B2116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7FB-411F-4667-918D-DC4D2563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FAE-861F-41C9-9760-37891457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7E4-399A-4429-A78D-EDBEFA13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86C-BCAF-4F06-A5A8-8D53D2BF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659-7121-4511-9478-772EC9FC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F69-AF44-4C92-8E5E-5AC4A80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B41-0132-42D8-8E4C-245F3D89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E37-07AC-42EC-A301-0DEB5A84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BD6C-D37D-40EA-A04E-15851450E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089080"/>
          </a:xfrm>
          <a:prstGeom prst="rect">
            <a:avLst/>
          </a:prstGeom>
          <a:solidFill>
            <a:srgbClr val="9fa8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ADZÓR PEDAGOGICZNY –NOWA KONCEP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racowanie – Stefan Wlazł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lanowe i doraźne działania prowadzone przez dyrektorów wynikają z potrzeb szkoły lub placówki”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  <a:ea typeface="Arial"/>
              </a:rPr>
              <a:t> 3.4.) – te potrzeby wynikają przede wszystkim z potrzeb rozwojowych dzie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solidFill>
            <a:srgbClr val="fefca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 OZNACZA JAKOŚĆ PRACY PRZEDSZKOLA W ŚWIETLE NOWEGO ROZPORZĄDZEN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solidFill>
            <a:srgbClr val="fefca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SPEŁNIANIE PRZEZ PRZEDSZKOLE WYMAGAŃ PAŃSTWA OPISANYCH W ZAŁĄCZNIKU DO ROZP. O NADZOR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ą nadzoru pedagogicznego staje się ewalu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odróżnieniu od badań naukowych stanowi rodzaj badania praktycznego: ma pomóc w usunięciu praktycznej trudności”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zysztof Konarzewski, Jak uprawiać badania oświatowe, Warszawa, 2001 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DZAJE EWALUA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ZEWNĘTRZ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WEWNĘTRZ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UTOEWALUACJ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WIE PIERWSZE DOTYCZĄ WYMAGAŃ OPISANYCH W ZAŁĄCZ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224000"/>
          </a:xfrm>
          <a:prstGeom prst="rect">
            <a:avLst/>
          </a:prstGeom>
          <a:solidFill>
            <a:srgbClr val="c2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AKRESY (OBSZARY) NADZ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50560" y="1483920"/>
            <a:ext cx="8569080" cy="5373720"/>
          </a:xfrm>
          <a:prstGeom prst="rect">
            <a:avLst/>
          </a:prstGeom>
          <a:solidFill>
            <a:srgbClr val="c2fea0"/>
          </a:solidFill>
          <a:ln w="0">
            <a:noFill/>
          </a:ln>
        </p:spPr>
        <p:txBody>
          <a:bodyPr anchor="t">
            <a:noAutofit/>
          </a:bodyPr>
          <a:p>
            <a:pPr marL="812880" indent="-812880" algn="ctr">
              <a:spcBef>
                <a:spcPts val="11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spcBef>
                <a:spcPts val="11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spcBef>
                <a:spcPts val="11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ŚRODOW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spcBef>
                <a:spcPts val="11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RZĄDZ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FEKTY-CELE -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EL = WYOBRAŻONY STAN RZECZY DO OSIĄGNIĘCIA W ŚCIŚLE OKREŚLONYM CZA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MPj03988690000[1]"/>
          <p:cNvPicPr/>
          <p:nvPr/>
        </p:nvPicPr>
        <p:blipFill>
          <a:blip r:embed="rId1"/>
          <a:stretch/>
        </p:blipFill>
        <p:spPr>
          <a:xfrm>
            <a:off x="1692360" y="4724280"/>
            <a:ext cx="4967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08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odstawę prawną nowego nadzoru stanowi Usta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7772400" cy="388620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odstawie delegacji ustawowej – obecny nadzór pedagogiczny jest definiowany jako stosowany w trzech form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waluac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ziałań pedagogicznych szkoł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ontr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ziałania szkoły zgodnie z praw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spomag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EKT – WYNIK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CBD06929_0000[1]"/>
          <p:cNvPicPr/>
          <p:nvPr/>
        </p:nvPicPr>
        <p:blipFill>
          <a:blip r:embed="rId1"/>
          <a:stretch/>
        </p:blipFill>
        <p:spPr>
          <a:xfrm>
            <a:off x="1187280" y="4941720"/>
            <a:ext cx="712980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2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KONCEPCJA NOWEGO NADZ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2fea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W KAŻDYM Z CZTERECH OBSZARÓW PRACY PLACÓWKI PODLEGAJĄCYCH NADZOROWI ZEWNĘTRZNEMU FORMULOWANE S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WYMAGAN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RAZ ICH CHARAKTERYSTYKA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OPISUJĄCA JAKOŚĆ NA POZIOMIE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I NA POZIOMIE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215120" cy="4857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800" spc="-1" strike="noStrike">
                <a:solidFill>
                  <a:srgbClr val="ffff00"/>
                </a:solidFill>
                <a:latin typeface="Arial"/>
              </a:rPr>
              <a:t>OBOWIĄZKOWY JEST POZIOM 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x+(cos(-2*pi*(1-$))*-#ppt_x-sin(-2*pi*(1-$))*(1-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x+(cos(-2*pi*(1-$))*-#ppt_x-sin(-2*pi*(1-$))*(1-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+(sin(-2*pi*(1-$))*-#ppt_x+cos(-2*pi*(1-$))*(1-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+(sin(-2*pi*(1-$))*-#ppt_x+cos(-2*pi*(1-$))*(1-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249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a wizytatora ds. ewaluacji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KONANIE OPISU TZW. „PROFILU” PRACY PLACÓWKI OŚWIATOWEJ W OPARCIU O OGÓLNOPOLSKIE  STANDARDY WYMAGAŃ, POKAZANIE METOD EWALUACYJNYCH, UZGODNIENIE Z RADĄ PEDAGOGICZNĄ WNIOSK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waluacja ZEWNĘTRZNA kończy się określeniem poziomów wypełniania przez PRZEDSZKOLE wymagań określonych przez państwo w załączniku  w odniesieniu do przedsz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2286000"/>
          </a:xfrm>
          <a:prstGeom prst="rect">
            <a:avLst/>
          </a:prstGeom>
          <a:solidFill>
            <a:srgbClr val="faa4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ymagania państwa są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2514600"/>
            <a:ext cx="8763120" cy="3124080"/>
          </a:xfrm>
          <a:prstGeom prst="rect">
            <a:avLst/>
          </a:prstGeom>
          <a:solidFill>
            <a:srgbClr val="faa4d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ZRÓŹNICOWA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solidFill>
            <a:srgbClr val="a29e0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port wizytatora ds. ewalua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 jakości pracy  przedszkol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3206880"/>
        </p:xfrm>
        <a:graphic>
          <a:graphicData uri="http://schemas.openxmlformats.org/drawingml/2006/table">
            <a:tbl>
              <a:tblPr/>
              <a:tblGrid>
                <a:gridCol w="2743200"/>
                <a:gridCol w="4495680"/>
                <a:gridCol w="99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z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magania państw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k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 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solidFill>
            <a:srgbClr val="a29e0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DZÓR PEDAGOGICZNY JEST SPRAWOWANY Z UWZGLĘDNIENIEM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ZANOWANIA SAMODZIELNOŚCI SZKÓŁ I PLACÓWEK     ORAZ NAUCZYCIEL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Na czym polega poszanowanie samodzielnoś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pl-PL" sz="4000" spc="-1" strike="noStrike">
                <a:solidFill>
                  <a:srgbClr val="ffff00"/>
                </a:solidFill>
                <a:latin typeface="Arial"/>
              </a:rPr>
              <a:t>Dyrektor może wnieść zastrzeżenia do treści raportu”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§</a:t>
            </a:r>
            <a:r>
              <a:rPr b="0" lang="pl-PL" sz="4000" spc="-1" strike="noStrike">
                <a:solidFill>
                  <a:srgbClr val="ffff00"/>
                </a:solidFill>
                <a:latin typeface="Arial"/>
                <a:ea typeface="Arial"/>
              </a:rPr>
              <a:t> 9.4.) kurator może je uwzględnić lub odrzuci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00"/>
                </a:solidFill>
                <a:latin typeface="Arial"/>
                <a:ea typeface="Arial"/>
              </a:rPr>
              <a:t>„</a:t>
            </a:r>
            <a:r>
              <a:rPr b="0" lang="pl-PL" sz="4000" spc="-1" strike="noStrike">
                <a:solidFill>
                  <a:srgbClr val="ffff00"/>
                </a:solidFill>
                <a:latin typeface="Arial"/>
                <a:ea typeface="Arial"/>
              </a:rPr>
              <a:t>Dyrektor może odmówić podpisania protokołu kontroli działania szkoły w zakresie prawa: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§</a:t>
            </a:r>
            <a:r>
              <a:rPr b="0" lang="pl-PL" sz="4000" spc="-1" strike="noStrike">
                <a:solidFill>
                  <a:srgbClr val="ffff00"/>
                </a:solidFill>
                <a:latin typeface="Arial"/>
                <a:ea typeface="Arial"/>
              </a:rPr>
              <a:t> 16.1.) a także zgłosić zastrzeżenia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§</a:t>
            </a:r>
            <a:r>
              <a:rPr b="0" lang="pl-PL" sz="4000" spc="-1" strike="noStrike">
                <a:solidFill>
                  <a:srgbClr val="ffff00"/>
                </a:solidFill>
                <a:latin typeface="Arial"/>
                <a:ea typeface="Arial"/>
              </a:rPr>
              <a:t> 17.1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WALUACJ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ZAWSZE JEST DZIAŁANIEM PLANOWYM I ZORGANIZOWANYM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KONTRO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NP.. DOKUMENTACJI PEDAGOGICZNEJ – USTALA SOBIE DYREKTOR W SWOIM HARMONOGRAMIE ZAJĘĆ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WSPOMAGANI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NP. PLAN W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solidFill>
            <a:srgbClr val="a29e0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port wizytatora ds. ewaluacji nie zawiera zaleceń i poleceń, a jedynie wnioski, które placówka ma uwzględnić w swoim jakościowym rozwo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315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WYMAGAŃ OGÓLNOPOLSKICH PRZEDSZKOLE TWORZY WŁASNE WSKAŹN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WSKAŹN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j0298653"/>
          <p:cNvPicPr/>
          <p:nvPr/>
        </p:nvPicPr>
        <p:blipFill>
          <a:blip r:embed="rId1"/>
          <a:stretch/>
        </p:blipFill>
        <p:spPr>
          <a:xfrm>
            <a:off x="3681360" y="3716280"/>
            <a:ext cx="506736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STANDARDY OGÓLNOKRAJOWE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(WYMAGAN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WSKAŹNIKI TWORZ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W PLACÓW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………………………………………………………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Organization Chart 13"/>
          <p:cNvGrpSpPr/>
          <p:nvPr/>
        </p:nvGrpSpPr>
        <p:grpSpPr>
          <a:xfrm>
            <a:off x="4616280" y="1585800"/>
            <a:ext cx="4032000" cy="4462560"/>
            <a:chOff x="4616280" y="1585800"/>
            <a:chExt cx="4032000" cy="4462560"/>
          </a:xfrm>
        </p:grpSpPr>
        <p:cxnSp>
          <p:nvCxnSpPr>
            <p:cNvPr id="105" name="_s40966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6891120" y="3110400"/>
              <a:ext cx="893160" cy="14119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40967"/>
            <p:cNvCxnSpPr>
              <a:stCxn id="109" idx="0"/>
              <a:endCxn id="107" idx="2"/>
            </p:cNvCxnSpPr>
            <p:nvPr/>
          </p:nvCxnSpPr>
          <p:spPr>
            <a:xfrm flipV="1">
              <a:off x="6632280" y="3369960"/>
              <a:ext cx="216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40968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5480280" y="3110760"/>
              <a:ext cx="893160" cy="14119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40969"/>
            <p:cNvSpPr/>
            <p:nvPr/>
          </p:nvSpPr>
          <p:spPr>
            <a:xfrm>
              <a:off x="6027480" y="158580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YMAGANI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NDARD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DSTAWOW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0970"/>
            <p:cNvSpPr/>
            <p:nvPr/>
          </p:nvSpPr>
          <p:spPr>
            <a:xfrm>
              <a:off x="4616280" y="426348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SKAŹNI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0971"/>
            <p:cNvSpPr/>
            <p:nvPr/>
          </p:nvSpPr>
          <p:spPr>
            <a:xfrm>
              <a:off x="6027480" y="426348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SKAŹNI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0972"/>
            <p:cNvSpPr/>
            <p:nvPr/>
          </p:nvSpPr>
          <p:spPr>
            <a:xfrm>
              <a:off x="7438680" y="4263480"/>
              <a:ext cx="1209600" cy="1784880"/>
            </a:xfrm>
            <a:custGeom>
              <a:avLst/>
              <a:gdLst>
                <a:gd name="textAreaLeft" fmla="*/ 59040 w 1209600"/>
                <a:gd name="textAreaRight" fmla="*/ 1150560 w 1209600"/>
                <a:gd name="textAreaTop" fmla="*/ 59040 h 1784880"/>
                <a:gd name="textAreaBottom" fmla="*/ 1725840 h 1784880"/>
              </a:gdLst>
              <a:ahLst/>
              <a:rect l="textAreaLeft" t="textAreaTop" r="textAreaRight" b="textAreaBottom"/>
              <a:pathLst>
                <a:path w="21600" h="31870">
                  <a:moveTo>
                    <a:pt x="3600" y="0"/>
                  </a:moveTo>
                  <a:arcTo wR="3600" hR="3600" stAng="16200000" swAng="-5400000"/>
                  <a:lnTo>
                    <a:pt x="0" y="28270"/>
                  </a:lnTo>
                  <a:arcTo wR="3600" hR="3600" stAng="10800000" swAng="-5400000"/>
                  <a:lnTo>
                    <a:pt x="18000" y="318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SKAŹNI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TANDARDY OGÓLNOKRAJOWE</a:t>
            </a:r>
            <a:br>
              <a:rPr sz="3200"/>
            </a:b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(WYMAG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WSKAŹ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TWORZ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W PLACÓW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002060"/>
                </a:solidFill>
                <a:latin typeface="Arial"/>
              </a:rPr>
              <a:t>Zorganizowane w placówce procesy ewaluacyjne i wykorzystywa-nie wniosków (rekomendacje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cc00cc"/>
                </a:solidFill>
                <a:latin typeface="Arial"/>
              </a:rPr>
              <a:t>PRZYKŁADY wskaźników wewnętrznych w przedszkolu do obszaru efekty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pl-PL" sz="4800" spc="-1" strike="noStrike">
                <a:solidFill>
                  <a:srgbClr val="cc00cc"/>
                </a:solidFill>
                <a:latin typeface="Arial"/>
              </a:rPr>
              <a:t>patrz doc.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W odniesieniu do wskazanych wskaźników wewnętrznych można prowadzić ewaluację – do wybor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Przykładowe zagadnienia ewaluacyjne w przedszkolu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zy dobrze przygotowujemy do podjęcia nauki szkolnej?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2. Czy pierwszaki chętnie chodzą do przedszkola?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3. Czy trafnie diagnozujemy zachowania dzieci w grupie?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4.czy zadowoleni jesteśmy z osiągnięć naszych dzieci?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zy realizowane przez nas programy pozwalają na osiąganie wartości edukacyjnych przyjętych w naszym przedszkolu?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2. Jak wspieramy dzieci w ich rozwoju?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3.W jaki sposób udaje się nam kształtowanie właściwych postaw dzieci i czy możemy to czynić lepie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jistotniejszą zmianą jest konieczność organizowania wewnętrznej ewaluacj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Jak pozyskiwać rodziców do udziału w zajęciach?</a:t>
            </a:r>
            <a:br>
              <a:rPr sz="4800"/>
            </a:b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2. Czy dobrze organizujemy współdziałanie z nowymi rodzicami</a:t>
            </a:r>
            <a:br>
              <a:rPr sz="4800"/>
            </a:b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3. czy nasza oferta jest znana środowisku rodzicó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ff"/>
                </a:solidFill>
                <a:latin typeface="Arial"/>
              </a:rPr>
              <a:t>1.Jak wykorzystujemy bazę przedszkolną do naszych zajęć?</a:t>
            </a:r>
            <a:br>
              <a:rPr sz="4400"/>
            </a:br>
            <a:r>
              <a:rPr b="0" lang="pl-PL" sz="4400" spc="-1" strike="noStrike">
                <a:solidFill>
                  <a:srgbClr val="3333ff"/>
                </a:solidFill>
                <a:latin typeface="Arial"/>
              </a:rPr>
              <a:t>2.Jakie są nasze potrzeby doskonaleniowe w ramach wd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owanie, to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określanie celó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lanowanie realizacji celó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ozyskiwanie zasobów ludzkich i rzeczowy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realizowanie planu (w ewaluacji: projektu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ocenianie, diagnozowanie, czy cele zostały osiągnię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ganizowanie  ewaluacji musi odbywać się z udziałem nauczycieli, w każdym z kroków działania zorganizowan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jważniejszym bowiem pytaniem w nowym nadzorze jest pytanie : jak edukacyjnie rozwija się nasze dziec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MPj04304930000[1]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533520"/>
            <a:ext cx="883908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5335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Nadzór ukierunkowany na rozwój ucznia, dzie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1676520"/>
            <a:ext cx="8305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czeki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Zadowol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3733920" y="1905120"/>
            <a:ext cx="3886200" cy="1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7620120" y="2286000"/>
            <a:ext cx="1440" cy="1523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1064880" y="4114800"/>
            <a:ext cx="6251400" cy="1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838080" y="4114800"/>
            <a:ext cx="1800" cy="2209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1219320" y="6324480"/>
            <a:ext cx="4038480" cy="1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Picture 11"/>
          <p:cNvSpPr/>
          <p:nvPr/>
        </p:nvSpPr>
        <p:spPr>
          <a:xfrm>
            <a:off x="6400800" y="4419720"/>
            <a:ext cx="147780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553080" y="4572000"/>
            <a:ext cx="1478160" cy="1611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efca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LATEGO NOWY NADZÓR JEST OKREŚLANY JAKO NADZÓR JAKOŚCI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fan Wlazło</cp:lastModifiedBy>
  <dcterms:modified xsi:type="dcterms:W3CDTF">2009-09-02T10:36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